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D1E5-213F-4B13-BF8A-B626BE19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D074-6678-4979-B05B-DF6336BB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BDC7-4449-4B6F-8D1E-40C6B86E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FA51-387E-487B-8835-6C75622B0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8253-419F-4235-9934-1F4E3063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782D-071B-42DC-92C5-68C475DF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2487-3854-4B4C-96C6-ED28FDB3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A0A3-07AF-442E-839A-B9586172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46CB-2B0B-4742-B140-86B4DABE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D729-8249-4F9D-87FB-B43FA64C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C132-8EED-4973-8E9A-F68B2471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A857-C070-4D11-B570-B3BD4DDA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2200-6B07-4188-82EA-D124481A9B68}" type="slidenum">
              <a:rPr b="0" lang="cs-CZ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5486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ccecff"/>
                </a:solidFill>
                <a:latin typeface="Arial"/>
              </a:rPr>
              <a:t>Ľuboslav IVANK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ccecff"/>
                </a:solidFill>
                <a:latin typeface="Arial"/>
              </a:rPr>
              <a:t>Liptovský Mikuláš, 2005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2" name="human-head-sculpture2" descr=""/>
          <p:cNvPicPr/>
          <p:nvPr/>
        </p:nvPicPr>
        <p:blipFill>
          <a:blip r:embed="rId1"/>
          <a:stretch/>
        </p:blipFill>
        <p:spPr>
          <a:xfrm>
            <a:off x="0" y="0"/>
            <a:ext cx="2476440" cy="2400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OPTIMALIZ</a:t>
            </a:r>
            <a:r>
              <a:rPr b="0" lang="sk-SK" sz="3200" spc="-1" strike="noStrike">
                <a:solidFill>
                  <a:srgbClr val="66ccff"/>
                </a:solidFill>
                <a:latin typeface="Arial"/>
              </a:rPr>
              <a:t>ÁCIA KYBERNETICKÉHO SYSTÉMU POUŽITÍM EXPERTNÝCH SYSTÉMOV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human-head-sculpture2" descr=""/>
          <p:cNvPicPr/>
          <p:nvPr/>
        </p:nvPicPr>
        <p:blipFill>
          <a:blip r:embed="rId1"/>
          <a:stretch/>
        </p:blipFill>
        <p:spPr>
          <a:xfrm>
            <a:off x="0" y="0"/>
            <a:ext cx="2476440" cy="24004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66ccff"/>
                </a:solidFill>
                <a:latin typeface="Arial"/>
              </a:rPr>
              <a:t>ZNALOSTI – DETEKCIA SLEPÝCH ZÓN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145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813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1" name="legenda1" descr=""/>
          <p:cNvPicPr/>
          <p:nvPr/>
        </p:nvPicPr>
        <p:blipFill>
          <a:blip r:embed="rId2"/>
          <a:stretch/>
        </p:blipFill>
        <p:spPr>
          <a:xfrm>
            <a:off x="6248520" y="2590920"/>
            <a:ext cx="360360" cy="2638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701040" y="2590920"/>
            <a:ext cx="166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ccecff"/>
                </a:solidFill>
                <a:latin typeface="Arial"/>
              </a:rPr>
              <a:t>nezmapované políčko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4280" y="2971800"/>
            <a:ext cx="10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ccecff"/>
                </a:solidFill>
                <a:latin typeface="Arial"/>
              </a:rPr>
              <a:t>voľné políčko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360" y="332568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ccecff"/>
                </a:solidFill>
                <a:latin typeface="Arial"/>
              </a:rPr>
              <a:t>prekážk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98880" y="3733920"/>
            <a:ext cx="23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ccecff"/>
                </a:solidFill>
                <a:latin typeface="Arial"/>
              </a:rPr>
              <a:t>políčko nie je súčasťou riešeni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04640" y="411480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ccecff"/>
                </a:solidFill>
                <a:latin typeface="Arial"/>
              </a:rPr>
              <a:t>dočasný cieľ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6800" y="4495680"/>
            <a:ext cx="4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ccecff"/>
                </a:solidFill>
                <a:latin typeface="Arial"/>
              </a:rPr>
              <a:t>cieľ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3560" y="4876920"/>
            <a:ext cx="11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ccecff"/>
                </a:solidFill>
                <a:latin typeface="Arial"/>
              </a:rPr>
              <a:t>pozícia robot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482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482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482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2" name="zone" descr=""/>
          <p:cNvPicPr/>
          <p:nvPr/>
        </p:nvPicPr>
        <p:blipFill>
          <a:blip r:embed="rId3"/>
          <a:stretch/>
        </p:blipFill>
        <p:spPr>
          <a:xfrm>
            <a:off x="152280" y="25909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6482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4" name="zone1" descr=""/>
          <p:cNvPicPr/>
          <p:nvPr/>
        </p:nvPicPr>
        <p:blipFill>
          <a:blip r:embed="rId4"/>
          <a:stretch/>
        </p:blipFill>
        <p:spPr>
          <a:xfrm>
            <a:off x="3200400" y="25909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human-head-sculpture2" descr=""/>
          <p:cNvPicPr/>
          <p:nvPr/>
        </p:nvPicPr>
        <p:blipFill>
          <a:blip r:embed="rId1"/>
          <a:stretch/>
        </p:blipFill>
        <p:spPr>
          <a:xfrm>
            <a:off x="0" y="0"/>
            <a:ext cx="2476440" cy="24004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66ccff"/>
                </a:solidFill>
                <a:latin typeface="Arial"/>
              </a:rPr>
              <a:t>VÝSLEDKY TESTOV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145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1964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813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482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482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482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04920" y="1600200"/>
            <a:ext cx="8593920" cy="4954680"/>
            <a:chOff x="304920" y="1600200"/>
            <a:chExt cx="8593920" cy="4954680"/>
          </a:xfrm>
        </p:grpSpPr>
        <p:grpSp>
          <p:nvGrpSpPr>
            <p:cNvPr id="165" name=""/>
            <p:cNvGrpSpPr/>
            <p:nvPr/>
          </p:nvGrpSpPr>
          <p:grpSpPr>
            <a:xfrm>
              <a:off x="311400" y="1601280"/>
              <a:ext cx="8580240" cy="4951800"/>
              <a:chOff x="311400" y="1601280"/>
              <a:chExt cx="8580240" cy="495180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311400" y="1601280"/>
                <a:ext cx="846360" cy="521280"/>
                <a:chOff x="311400" y="1601280"/>
                <a:chExt cx="846360" cy="5212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01040" y="1601280"/>
                  <a:ext cx="666360" cy="52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Poradie metódy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11400" y="1601280"/>
                  <a:ext cx="846360" cy="52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1158480" y="1601280"/>
                <a:ext cx="5571720" cy="521280"/>
                <a:chOff x="1158480" y="1601280"/>
                <a:chExt cx="5571720" cy="5212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248120" y="1601280"/>
                  <a:ext cx="5391360" cy="52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Algoritmus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158480" y="1601280"/>
                  <a:ext cx="5571720" cy="52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731280" y="1601280"/>
                <a:ext cx="2160360" cy="521280"/>
                <a:chOff x="6731280" y="1601280"/>
                <a:chExt cx="2160360" cy="5212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820920" y="1601280"/>
                  <a:ext cx="1980000" cy="52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Priemerný počet krokov potrebných k prejdeniu bludiska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731280" y="1601280"/>
                  <a:ext cx="2160360" cy="52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311400" y="2122560"/>
                <a:ext cx="846360" cy="403560"/>
                <a:chOff x="311400" y="2122560"/>
                <a:chExt cx="846360" cy="40356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01040" y="2122560"/>
                  <a:ext cx="666360" cy="40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11400" y="2122560"/>
                  <a:ext cx="846360" cy="40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1158480" y="2122560"/>
                <a:ext cx="5571720" cy="403560"/>
                <a:chOff x="1158480" y="2122560"/>
                <a:chExt cx="5571720" cy="4035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248120" y="2122560"/>
                  <a:ext cx="5391360" cy="40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Voľba dočasných cieľov čo najbližšie k robotovi s detekciou slepých chodieb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ccec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158480" y="2122560"/>
                  <a:ext cx="5571720" cy="40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6731280" y="2122560"/>
                <a:ext cx="2160360" cy="403560"/>
                <a:chOff x="6731280" y="2122560"/>
                <a:chExt cx="2160360" cy="4035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6820920" y="2122560"/>
                  <a:ext cx="1980000" cy="40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75,8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731280" y="2122560"/>
                  <a:ext cx="2160360" cy="40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311400" y="2526480"/>
                <a:ext cx="846360" cy="469080"/>
                <a:chOff x="311400" y="2526480"/>
                <a:chExt cx="846360" cy="4690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01040" y="2526480"/>
                  <a:ext cx="66636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11400" y="2526480"/>
                  <a:ext cx="84636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1158480" y="2526480"/>
                <a:ext cx="5571720" cy="469080"/>
                <a:chOff x="1158480" y="2526480"/>
                <a:chExt cx="5571720" cy="4690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248120" y="2526480"/>
                  <a:ext cx="539136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Voľba dočasných cieľov čo najbližšie k robotovi s detekciou slepých chodieb a zón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ccec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158480" y="2526480"/>
                  <a:ext cx="557172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6731280" y="2526480"/>
                <a:ext cx="2160360" cy="469080"/>
                <a:chOff x="6731280" y="2526480"/>
                <a:chExt cx="2160360" cy="4690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6820920" y="2526480"/>
                  <a:ext cx="198000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76,5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731280" y="2526480"/>
                  <a:ext cx="216036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311400" y="2995560"/>
                <a:ext cx="846360" cy="403560"/>
                <a:chOff x="311400" y="2995560"/>
                <a:chExt cx="846360" cy="4035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01040" y="2995560"/>
                  <a:ext cx="666360" cy="40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11400" y="2995560"/>
                  <a:ext cx="846360" cy="40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1158480" y="2995560"/>
                <a:ext cx="5571720" cy="403560"/>
                <a:chOff x="1158480" y="2995560"/>
                <a:chExt cx="5571720" cy="40356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248120" y="2995560"/>
                  <a:ext cx="5391360" cy="40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Voľba dočasných cieľov medzi robotom a cieľom s detekciou slepých chodieb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ccec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158480" y="2995560"/>
                  <a:ext cx="5571720" cy="40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6731280" y="2995560"/>
                <a:ext cx="2160360" cy="403560"/>
                <a:chOff x="6731280" y="2995560"/>
                <a:chExt cx="2160360" cy="4035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6820920" y="2995560"/>
                  <a:ext cx="1980000" cy="40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77,8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731280" y="2995560"/>
                  <a:ext cx="2160360" cy="40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311400" y="3399480"/>
                <a:ext cx="846360" cy="403920"/>
                <a:chOff x="311400" y="3399480"/>
                <a:chExt cx="846360" cy="4039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401040" y="3399480"/>
                  <a:ext cx="666360" cy="40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11400" y="3399480"/>
                  <a:ext cx="846360" cy="40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1158480" y="3399480"/>
                <a:ext cx="5571720" cy="403920"/>
                <a:chOff x="1158480" y="3399480"/>
                <a:chExt cx="5571720" cy="4039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248120" y="3399480"/>
                  <a:ext cx="5391360" cy="40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Voľba dočasných cieľov čo najbližšie k cieľu s detekciou slepých chodieb a zón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ccec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158480" y="3399480"/>
                  <a:ext cx="5571720" cy="40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6731280" y="3399480"/>
                <a:ext cx="2160360" cy="403920"/>
                <a:chOff x="6731280" y="3399480"/>
                <a:chExt cx="2160360" cy="4039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820920" y="3399480"/>
                  <a:ext cx="1980000" cy="40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92,3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731280" y="3399480"/>
                  <a:ext cx="2160360" cy="40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11400" y="3803760"/>
                <a:ext cx="846360" cy="403920"/>
                <a:chOff x="311400" y="3803760"/>
                <a:chExt cx="846360" cy="4039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401040" y="3803760"/>
                  <a:ext cx="666360" cy="40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11400" y="3803760"/>
                  <a:ext cx="846360" cy="40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1158480" y="3803760"/>
                <a:ext cx="5571720" cy="403920"/>
                <a:chOff x="1158480" y="3803760"/>
                <a:chExt cx="5571720" cy="4039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1248120" y="3803760"/>
                  <a:ext cx="5391360" cy="40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Voľa dočasných cieľov medzi robotom a cieľom s detekciou slepých chodieb a zón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ccec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158480" y="3803760"/>
                  <a:ext cx="5571720" cy="40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6731280" y="3803760"/>
                <a:ext cx="2160360" cy="403920"/>
                <a:chOff x="6731280" y="3803760"/>
                <a:chExt cx="2160360" cy="4039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6820920" y="3803760"/>
                  <a:ext cx="1980000" cy="40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95,1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731280" y="3803760"/>
                  <a:ext cx="2160360" cy="40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311400" y="4207680"/>
                <a:ext cx="846360" cy="469080"/>
                <a:chOff x="311400" y="4207680"/>
                <a:chExt cx="846360" cy="4690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01040" y="4207680"/>
                  <a:ext cx="66636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11400" y="4207680"/>
                  <a:ext cx="84636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1158480" y="4207680"/>
                <a:ext cx="5571720" cy="469080"/>
                <a:chOff x="1158480" y="4207680"/>
                <a:chExt cx="5571720" cy="4690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248120" y="4207680"/>
                  <a:ext cx="539136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Voľba dočasných cieľov čo najbližšie k cieľu s detekciou slepých chodieb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ccec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158480" y="4207680"/>
                  <a:ext cx="557172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6731280" y="4207680"/>
                <a:ext cx="2160360" cy="469080"/>
                <a:chOff x="6731280" y="4207680"/>
                <a:chExt cx="2160360" cy="4690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6820920" y="4207680"/>
                  <a:ext cx="198000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127,8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731280" y="4207680"/>
                  <a:ext cx="216036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311400" y="4676760"/>
                <a:ext cx="846360" cy="469080"/>
                <a:chOff x="311400" y="4676760"/>
                <a:chExt cx="846360" cy="46908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401040" y="4676760"/>
                  <a:ext cx="66636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11400" y="4676760"/>
                  <a:ext cx="84636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1158480" y="4676760"/>
                <a:ext cx="5571720" cy="469080"/>
                <a:chOff x="1158480" y="4676760"/>
                <a:chExt cx="5571720" cy="4690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1248120" y="4676760"/>
                  <a:ext cx="539136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Pohyb v smere gradientu so zotavením sa voľbou dočasného cieľa čo najbližšie k cieľu s detekciou slepých chodieb a zón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ccec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158480" y="4676760"/>
                  <a:ext cx="557172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6731280" y="4676760"/>
                <a:ext cx="2160360" cy="469080"/>
                <a:chOff x="6731280" y="4676760"/>
                <a:chExt cx="2160360" cy="4690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820920" y="4676760"/>
                  <a:ext cx="198000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165,7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731280" y="4676760"/>
                  <a:ext cx="216036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311400" y="5145840"/>
                <a:ext cx="846360" cy="469080"/>
                <a:chOff x="311400" y="5145840"/>
                <a:chExt cx="846360" cy="4690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401040" y="5145840"/>
                  <a:ext cx="66636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11400" y="5145840"/>
                  <a:ext cx="84636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1158480" y="5145840"/>
                <a:ext cx="5571720" cy="469080"/>
                <a:chOff x="1158480" y="5145840"/>
                <a:chExt cx="5571720" cy="46908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248120" y="5145840"/>
                  <a:ext cx="539136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Pohyb v smere gradientu so zotavením sa voľbou dočasného cieľa čo najbližšie k cieľu s detekciou slepých chodieb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ccec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158480" y="5145840"/>
                  <a:ext cx="557172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6731280" y="5145840"/>
                <a:ext cx="2160360" cy="469080"/>
                <a:chOff x="6731280" y="5145840"/>
                <a:chExt cx="2160360" cy="46908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820920" y="5145840"/>
                  <a:ext cx="198000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175,3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731280" y="5145840"/>
                  <a:ext cx="216036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11400" y="5614920"/>
                <a:ext cx="846360" cy="469080"/>
                <a:chOff x="311400" y="5614920"/>
                <a:chExt cx="846360" cy="46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401040" y="5614920"/>
                  <a:ext cx="66636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11400" y="5614920"/>
                  <a:ext cx="84636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1158480" y="5614920"/>
                <a:ext cx="5571720" cy="469080"/>
                <a:chOff x="1158480" y="5614920"/>
                <a:chExt cx="5571720" cy="46908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1248120" y="5614920"/>
                  <a:ext cx="539136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Pohyb v smere gradientu so zotavením sa voľbou náhodného dočasného cieľa s detekciou slepých chodieb a zón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ccec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158480" y="5614920"/>
                  <a:ext cx="557172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6731280" y="5614920"/>
                <a:ext cx="2160360" cy="469080"/>
                <a:chOff x="6731280" y="5614920"/>
                <a:chExt cx="2160360" cy="46908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6820920" y="5614920"/>
                  <a:ext cx="198000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185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731280" y="5614920"/>
                  <a:ext cx="216036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311400" y="6084000"/>
                <a:ext cx="846360" cy="469080"/>
                <a:chOff x="311400" y="6084000"/>
                <a:chExt cx="846360" cy="4690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01040" y="6084000"/>
                  <a:ext cx="66636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11400" y="6084000"/>
                  <a:ext cx="84636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1158480" y="6084000"/>
                <a:ext cx="5571720" cy="469080"/>
                <a:chOff x="1158480" y="6084000"/>
                <a:chExt cx="5571720" cy="4690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1248120" y="6084000"/>
                  <a:ext cx="539136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Pohyb v smere gradientu so zotavením sa voľbou dočasného cieľa medzi robotom a cieľom s detekciou slepých chodieb a zón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ccec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158480" y="6084000"/>
                  <a:ext cx="557172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6731280" y="6084000"/>
                <a:ext cx="2160360" cy="469080"/>
                <a:chOff x="6731280" y="6084000"/>
                <a:chExt cx="2160360" cy="4690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20920" y="6084000"/>
                  <a:ext cx="198000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cecff"/>
                      </a:solidFill>
                      <a:latin typeface="Arial"/>
                      <a:ea typeface="Arial"/>
                    </a:rPr>
                    <a:t>190,1</a:t>
                  </a: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731280" y="6084000"/>
                  <a:ext cx="2160360" cy="46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304920" y="1600200"/>
              <a:ext cx="8593920" cy="4954680"/>
            </a:xfrm>
            <a:prstGeom prst="rect">
              <a:avLst/>
            </a:prstGeom>
            <a:noFill/>
            <a:ln w="7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human-head-sculpture2" descr=""/>
          <p:cNvPicPr/>
          <p:nvPr/>
        </p:nvPicPr>
        <p:blipFill>
          <a:blip r:embed="rId1"/>
          <a:stretch/>
        </p:blipFill>
        <p:spPr>
          <a:xfrm>
            <a:off x="0" y="0"/>
            <a:ext cx="2476440" cy="24004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66ccff"/>
                </a:solidFill>
                <a:latin typeface="Arial"/>
              </a:rPr>
              <a:t>ZÁVER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145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1964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813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482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482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482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482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95280" y="2743200"/>
            <a:ext cx="669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ccecff"/>
                </a:solidFill>
                <a:latin typeface="Arial"/>
                <a:ea typeface="Arial"/>
              </a:rPr>
              <a:t>Práca si kládla za úlohu overiť možnosti použitia expertných systémov pre riešenie na prvý pohľad triviálnych problémov. Ukázalo sa, že aj takáto neštandardná aplikácia ES dokáže priniesť pozitívne výsledky, a možnosti nasadenia expertných systémov sú skutočne veľmi široké.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5280" y="4419720"/>
            <a:ext cx="670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ccecff"/>
                </a:solidFill>
                <a:latin typeface="Arial"/>
                <a:ea typeface="Times New Roman"/>
              </a:rPr>
              <a:t>Práca rozhodne nájde svoje uplatnenie pri demonštrácii činnosti jednoduchého expertného systému, a keďže sa jedná o skutočne veľmi triviálnu aplikáciu poskytuje možnosť zoznámiť sa s problematikou expertných systémov aj človeku, ktorý s umelou inteligenciou nemá žiadne predošlé skúsenosti</a:t>
            </a:r>
            <a:r>
              <a:rPr b="0" lang="cs-CZ" sz="1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human-head-sculpture2" descr=""/>
          <p:cNvPicPr/>
          <p:nvPr/>
        </p:nvPicPr>
        <p:blipFill>
          <a:blip r:embed="rId1"/>
          <a:stretch/>
        </p:blipFill>
        <p:spPr>
          <a:xfrm>
            <a:off x="0" y="0"/>
            <a:ext cx="2476440" cy="24004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66ccff"/>
                </a:solidFill>
                <a:latin typeface="Arial"/>
              </a:rPr>
              <a:t>Ďakujem za pozornosť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145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1964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813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482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6482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482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482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human-head-sculpture2" descr=""/>
          <p:cNvPicPr/>
          <p:nvPr/>
        </p:nvPicPr>
        <p:blipFill>
          <a:blip r:embed="rId1"/>
          <a:stretch/>
        </p:blipFill>
        <p:spPr>
          <a:xfrm>
            <a:off x="0" y="0"/>
            <a:ext cx="2476440" cy="2400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66ccff"/>
                </a:solidFill>
                <a:latin typeface="Arial"/>
              </a:rPr>
              <a:t>ŠTRUKTÚRA EXPERTNÉHO SYSTÉMU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46" name="struct" descr=""/>
          <p:cNvPicPr/>
          <p:nvPr/>
        </p:nvPicPr>
        <p:blipFill>
          <a:blip r:embed="rId2"/>
          <a:stretch/>
        </p:blipFill>
        <p:spPr>
          <a:xfrm>
            <a:off x="2514600" y="1523880"/>
            <a:ext cx="563868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human-head-sculpture2" descr=""/>
          <p:cNvPicPr/>
          <p:nvPr/>
        </p:nvPicPr>
        <p:blipFill>
          <a:blip r:embed="rId1"/>
          <a:stretch/>
        </p:blipFill>
        <p:spPr>
          <a:xfrm>
            <a:off x="0" y="0"/>
            <a:ext cx="2476440" cy="2400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66ccff"/>
                </a:solidFill>
                <a:latin typeface="Arial"/>
              </a:rPr>
              <a:t>ZÁKLADNÉ ZLOŽ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KY</a:t>
            </a:r>
            <a:r>
              <a:rPr b="0" lang="sk-SK" sz="3200" spc="-1" strike="noStrike">
                <a:solidFill>
                  <a:srgbClr val="66ccff"/>
                </a:solidFill>
                <a:latin typeface="Arial"/>
              </a:rPr>
              <a:t> EXPERTNÉHO SYSTÉMU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49" name="zlozky" descr=""/>
          <p:cNvPicPr/>
          <p:nvPr/>
        </p:nvPicPr>
        <p:blipFill>
          <a:blip r:embed="rId2"/>
          <a:stretch/>
        </p:blipFill>
        <p:spPr>
          <a:xfrm>
            <a:off x="2286000" y="2743200"/>
            <a:ext cx="5022720" cy="1150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81080" y="46483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ccecff"/>
                </a:solidFill>
                <a:latin typeface="Arial"/>
              </a:rPr>
              <a:t>BU</a:t>
            </a:r>
            <a:r>
              <a:rPr b="0" lang="sk-SK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ccecff"/>
                </a:solidFill>
                <a:latin typeface="Arial"/>
              </a:rPr>
              <a:t>- Báza údajov resp. Báza faktov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83600" y="510552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ccecff"/>
                </a:solidFill>
                <a:latin typeface="Arial"/>
              </a:rPr>
              <a:t>IM</a:t>
            </a:r>
            <a:r>
              <a:rPr b="0" lang="sk-SK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ccecff"/>
                </a:solidFill>
                <a:latin typeface="Arial"/>
              </a:rPr>
              <a:t>- Inferenčný mechanizmu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5562720"/>
            <a:ext cx="31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ccecff"/>
                </a:solidFill>
                <a:latin typeface="Arial"/>
              </a:rPr>
              <a:t>BZ</a:t>
            </a:r>
            <a:r>
              <a:rPr b="0" lang="sk-SK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ccecff"/>
                </a:solidFill>
                <a:latin typeface="Arial"/>
              </a:rPr>
              <a:t>- Báza znalostí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human-head-sculpture2" descr=""/>
          <p:cNvPicPr/>
          <p:nvPr/>
        </p:nvPicPr>
        <p:blipFill>
          <a:blip r:embed="rId1"/>
          <a:stretch/>
        </p:blipFill>
        <p:spPr>
          <a:xfrm>
            <a:off x="0" y="0"/>
            <a:ext cx="2476440" cy="2400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66ccff"/>
                </a:solidFill>
                <a:latin typeface="Arial"/>
              </a:rPr>
              <a:t>KYBERNETICKÝ SYSTÉM</a:t>
            </a:r>
            <a:br>
              <a:rPr sz="3200"/>
            </a:br>
            <a:r>
              <a:rPr b="0" lang="sk-SK" sz="3200" spc="-1" strike="noStrike">
                <a:solidFill>
                  <a:srgbClr val="66ccff"/>
                </a:solidFill>
                <a:latin typeface="Arial"/>
              </a:rPr>
              <a:t>ROBOT SERGEJ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5" name="robot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952880" cy="4057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V="1">
            <a:off x="4038480" y="5410080"/>
            <a:ext cx="2971800" cy="152640"/>
          </a:xfrm>
          <a:prstGeom prst="line">
            <a:avLst/>
          </a:prstGeom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4952880"/>
            <a:ext cx="914400" cy="457200"/>
          </a:xfrm>
          <a:prstGeom prst="line">
            <a:avLst/>
          </a:prstGeom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5410080"/>
            <a:ext cx="1600200" cy="0"/>
          </a:xfrm>
          <a:prstGeom prst="line">
            <a:avLst/>
          </a:prstGeom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4572000"/>
            <a:ext cx="304560" cy="838080"/>
          </a:xfrm>
          <a:prstGeom prst="line">
            <a:avLst/>
          </a:prstGeom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10280" y="3886200"/>
            <a:ext cx="0" cy="1523880"/>
          </a:xfrm>
          <a:prstGeom prst="line">
            <a:avLst/>
          </a:prstGeom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12080" y="5334120"/>
            <a:ext cx="19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SADA SENZOROV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523880" y="4191120"/>
            <a:ext cx="1371600" cy="1371600"/>
          </a:xfrm>
          <a:prstGeom prst="line">
            <a:avLst/>
          </a:prstGeom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9720" y="5562720"/>
            <a:ext cx="20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SILONOV</a:t>
            </a:r>
            <a:r>
              <a:rPr b="0" lang="sk-SK" sz="1600" spc="-1" strike="noStrike">
                <a:solidFill>
                  <a:srgbClr val="ccecff"/>
                </a:solidFill>
                <a:latin typeface="Arial"/>
              </a:rPr>
              <a:t>É KOLESÁ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2285640" y="2666880"/>
            <a:ext cx="1523880" cy="76320"/>
          </a:xfrm>
          <a:prstGeom prst="line">
            <a:avLst/>
          </a:prstGeom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20" y="2438280"/>
            <a:ext cx="227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ccecff"/>
                </a:solidFill>
                <a:latin typeface="Arial"/>
              </a:rPr>
              <a:t>RIADIACI PROCESO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ccecff"/>
                </a:solidFill>
                <a:latin typeface="Arial"/>
              </a:rPr>
              <a:t>8051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581280" y="4038480"/>
            <a:ext cx="533520" cy="1981440"/>
          </a:xfrm>
          <a:prstGeom prst="line">
            <a:avLst/>
          </a:prstGeom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53760" y="6095880"/>
            <a:ext cx="212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ccecff"/>
                </a:solidFill>
                <a:latin typeface="Arial"/>
              </a:rPr>
              <a:t>KROKOVÉ MOTORY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ccecff"/>
                </a:solidFill>
                <a:latin typeface="Arial"/>
              </a:rPr>
              <a:t>KP4M4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724280" y="2895120"/>
            <a:ext cx="2286000" cy="304920"/>
          </a:xfrm>
          <a:prstGeom prst="line">
            <a:avLst/>
          </a:prstGeom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09880" y="1676520"/>
            <a:ext cx="2743200" cy="761760"/>
          </a:xfrm>
          <a:prstGeom prst="line">
            <a:avLst/>
          </a:prstGeom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15000" y="1447920"/>
            <a:ext cx="200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ccecff"/>
                </a:solidFill>
                <a:latin typeface="Arial"/>
              </a:rPr>
              <a:t>VÝKONOVÝ BUDIČ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ccecff"/>
                </a:solidFill>
                <a:latin typeface="Arial"/>
              </a:rPr>
              <a:t>ULN 2803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86600" y="251460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ccecff"/>
                </a:solidFill>
                <a:latin typeface="Arial"/>
              </a:rPr>
              <a:t>PREVODNÍK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ccecff"/>
                </a:solidFill>
                <a:latin typeface="Arial"/>
              </a:rPr>
              <a:t>RS232 na TTL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ccecff"/>
                </a:solidFill>
                <a:latin typeface="Arial"/>
              </a:rPr>
              <a:t>MAX 232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human-head-sculpture2" descr=""/>
          <p:cNvPicPr/>
          <p:nvPr/>
        </p:nvPicPr>
        <p:blipFill>
          <a:blip r:embed="rId1"/>
          <a:stretch/>
        </p:blipFill>
        <p:spPr>
          <a:xfrm>
            <a:off x="0" y="0"/>
            <a:ext cx="2476440" cy="24004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66ccff"/>
                </a:solidFill>
                <a:latin typeface="Arial"/>
              </a:rPr>
              <a:t>KYBERNETICKÝ SYSTÉM</a:t>
            </a:r>
            <a:br>
              <a:rPr sz="3200"/>
            </a:br>
            <a:r>
              <a:rPr b="0" lang="sk-SK" sz="3200" spc="-1" strike="noStrike">
                <a:solidFill>
                  <a:srgbClr val="66ccff"/>
                </a:solidFill>
                <a:latin typeface="Arial"/>
              </a:rPr>
              <a:t>PROGRAMOVÉ RIEŠENIE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145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5" name="program" descr=""/>
          <p:cNvPicPr/>
          <p:nvPr/>
        </p:nvPicPr>
        <p:blipFill>
          <a:blip r:embed="rId2"/>
          <a:stretch/>
        </p:blipFill>
        <p:spPr>
          <a:xfrm>
            <a:off x="1371600" y="1905120"/>
            <a:ext cx="5910120" cy="4457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248520" y="2514600"/>
            <a:ext cx="1295280" cy="0"/>
          </a:xfrm>
          <a:prstGeom prst="line">
            <a:avLst/>
          </a:prstGeom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2209680"/>
            <a:ext cx="92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ccecff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ccecff"/>
                </a:solidFill>
                <a:latin typeface="Arial"/>
              </a:rPr>
              <a:t>bludisk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3505320"/>
            <a:ext cx="3048120" cy="0"/>
          </a:xfrm>
          <a:prstGeom prst="line">
            <a:avLst/>
          </a:prstGeom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0120" y="320040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ccecff"/>
                </a:solidFill>
                <a:latin typeface="Arial"/>
              </a:rPr>
              <a:t>skutočný stav bázy údajov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3124080"/>
            <a:ext cx="0" cy="1143000"/>
          </a:xfrm>
          <a:prstGeom prst="line">
            <a:avLst/>
          </a:prstGeom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4267080"/>
            <a:ext cx="3429000" cy="0"/>
          </a:xfrm>
          <a:prstGeom prst="line">
            <a:avLst/>
          </a:prstGeom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80240" y="3946680"/>
            <a:ext cx="146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ccecff"/>
                </a:solidFill>
                <a:latin typeface="Arial"/>
              </a:rPr>
              <a:t>poloha robota v bludisku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6095880"/>
            <a:ext cx="0" cy="609840"/>
          </a:xfrm>
          <a:prstGeom prst="line">
            <a:avLst/>
          </a:prstGeom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05320" y="6705720"/>
            <a:ext cx="685800" cy="0"/>
          </a:xfrm>
          <a:prstGeom prst="line">
            <a:avLst/>
          </a:prstGeom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8880" y="652140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ccecff"/>
                </a:solidFill>
                <a:latin typeface="Arial"/>
              </a:rPr>
              <a:t>voľba algoritmov - znalostí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human-head-sculpture2" descr=""/>
          <p:cNvPicPr/>
          <p:nvPr/>
        </p:nvPicPr>
        <p:blipFill>
          <a:blip r:embed="rId1"/>
          <a:stretch/>
        </p:blipFill>
        <p:spPr>
          <a:xfrm>
            <a:off x="0" y="0"/>
            <a:ext cx="2476440" cy="2400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66ccff"/>
                </a:solidFill>
                <a:latin typeface="Arial"/>
              </a:rPr>
              <a:t>BÁZA ÚDAJOV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145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590920" y="1371600"/>
          <a:ext cx="4095720" cy="3971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371600"/>
                    <a:ext cx="4095720" cy="3971880"/>
                  </a:xfrm>
                  <a:prstGeom prst="rect">
                    <a:avLst/>
                  </a:prstGeom>
                  <a:ln w="9360">
                    <a:solidFill>
                      <a:srgbClr val="cce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593080" y="5581800"/>
            <a:ext cx="26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ccecff"/>
                </a:solidFill>
                <a:latin typeface="Arial"/>
              </a:rPr>
              <a:t>0   – nezmapované políčko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3080" y="5867280"/>
            <a:ext cx="29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ccecff"/>
                </a:solidFill>
                <a:latin typeface="Arial"/>
              </a:rPr>
              <a:t>1   – zmapované políčko, voľné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3440" y="6172200"/>
            <a:ext cx="33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ccecff"/>
                </a:solidFill>
                <a:latin typeface="Arial"/>
              </a:rPr>
              <a:t>2   – zmapované políčko, prekážk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2000" y="6477120"/>
            <a:ext cx="457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ccecff"/>
                </a:solidFill>
                <a:latin typeface="Arial"/>
              </a:rPr>
              <a:t>12 – políčko, ktoré nie je súčasťou cesty do cieľ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human-head-sculpture2" descr=""/>
          <p:cNvPicPr/>
          <p:nvPr/>
        </p:nvPicPr>
        <p:blipFill>
          <a:blip r:embed="rId1"/>
          <a:stretch/>
        </p:blipFill>
        <p:spPr>
          <a:xfrm>
            <a:off x="0" y="0"/>
            <a:ext cx="2476440" cy="2400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66ccff"/>
                </a:solidFill>
                <a:latin typeface="Arial"/>
              </a:rPr>
              <a:t>ZNALOSTI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145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6520" y="3352680"/>
            <a:ext cx="484272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ccecff"/>
                </a:solidFill>
                <a:latin typeface="Arial"/>
              </a:rPr>
              <a:t>Náhodný pohyb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ccecff"/>
                </a:solidFill>
                <a:latin typeface="Arial"/>
              </a:rPr>
              <a:t>Pohyb využívajúci znalosti typu genotyp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ccecff"/>
                </a:solidFill>
                <a:latin typeface="Arial"/>
              </a:rPr>
              <a:t>Pohyb v smere gradient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ccecff"/>
                </a:solidFill>
                <a:latin typeface="Arial"/>
              </a:rPr>
              <a:t>Voľba dočasných cieľov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320" y="5562720"/>
            <a:ext cx="590796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ccecff"/>
                </a:solidFill>
                <a:latin typeface="Arial"/>
              </a:rPr>
              <a:t>Detekcia zacyklenia a zotavenie sa zo zacykleni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ccecff"/>
                </a:solidFill>
                <a:latin typeface="Arial"/>
              </a:rPr>
              <a:t>Detekcia slepých chodieb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ccecff"/>
                </a:solidFill>
                <a:latin typeface="Arial"/>
              </a:rPr>
              <a:t>Detekcia slepých zó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7800" y="2894040"/>
            <a:ext cx="36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ccecff"/>
                </a:solidFill>
                <a:latin typeface="Arial"/>
              </a:rPr>
              <a:t>ALGORITMUS POHYBU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9600" y="5181480"/>
            <a:ext cx="38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ccecff"/>
                </a:solidFill>
                <a:latin typeface="Arial"/>
              </a:rPr>
              <a:t>DOPLŇUJÚCE ZNALOS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human-head-sculpture2" descr=""/>
          <p:cNvPicPr/>
          <p:nvPr/>
        </p:nvPicPr>
        <p:blipFill>
          <a:blip r:embed="rId1"/>
          <a:stretch/>
        </p:blipFill>
        <p:spPr>
          <a:xfrm>
            <a:off x="0" y="0"/>
            <a:ext cx="2476440" cy="24004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66ccff"/>
                </a:solidFill>
                <a:latin typeface="Arial"/>
              </a:rPr>
              <a:t>ZNALOSTI – DETEKCIA ZACYKLENIA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145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813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7" name="legenda1" descr=""/>
          <p:cNvPicPr/>
          <p:nvPr/>
        </p:nvPicPr>
        <p:blipFill>
          <a:blip r:embed="rId2"/>
          <a:stretch/>
        </p:blipFill>
        <p:spPr>
          <a:xfrm>
            <a:off x="6248520" y="2590920"/>
            <a:ext cx="360360" cy="2638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701040" y="2590920"/>
            <a:ext cx="166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ccecff"/>
                </a:solidFill>
                <a:latin typeface="Arial"/>
              </a:rPr>
              <a:t>nezmapované políčko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4280" y="2971800"/>
            <a:ext cx="10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ccecff"/>
                </a:solidFill>
                <a:latin typeface="Arial"/>
              </a:rPr>
              <a:t>voľné políčko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360" y="332568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ccecff"/>
                </a:solidFill>
                <a:latin typeface="Arial"/>
              </a:rPr>
              <a:t>prekážk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98880" y="3733920"/>
            <a:ext cx="23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ccecff"/>
                </a:solidFill>
                <a:latin typeface="Arial"/>
              </a:rPr>
              <a:t>políčko nie je súčasťou riešeni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4640" y="411480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ccecff"/>
                </a:solidFill>
                <a:latin typeface="Arial"/>
              </a:rPr>
              <a:t>dočasný cieľ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6800" y="4495680"/>
            <a:ext cx="4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ccecff"/>
                </a:solidFill>
                <a:latin typeface="Arial"/>
              </a:rPr>
              <a:t>cieľ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3560" y="4876920"/>
            <a:ext cx="11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ccecff"/>
                </a:solidFill>
                <a:latin typeface="Arial"/>
              </a:rPr>
              <a:t>pozícia robot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482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482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1964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8" name="zacyklenie" descr=""/>
          <p:cNvPicPr/>
          <p:nvPr/>
        </p:nvPicPr>
        <p:blipFill>
          <a:blip r:embed="rId3"/>
          <a:stretch/>
        </p:blipFill>
        <p:spPr>
          <a:xfrm>
            <a:off x="152280" y="25909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human-head-sculpture2" descr=""/>
          <p:cNvPicPr/>
          <p:nvPr/>
        </p:nvPicPr>
        <p:blipFill>
          <a:blip r:embed="rId1"/>
          <a:stretch/>
        </p:blipFill>
        <p:spPr>
          <a:xfrm>
            <a:off x="0" y="0"/>
            <a:ext cx="2476440" cy="24004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66ccff"/>
                </a:solidFill>
                <a:latin typeface="Arial"/>
              </a:rPr>
              <a:t>ZNALOSTI – DETEKCIA SLEPÝCH CHODIEB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145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813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4" name="legenda1" descr=""/>
          <p:cNvPicPr/>
          <p:nvPr/>
        </p:nvPicPr>
        <p:blipFill>
          <a:blip r:embed="rId2"/>
          <a:stretch/>
        </p:blipFill>
        <p:spPr>
          <a:xfrm>
            <a:off x="6248520" y="2590920"/>
            <a:ext cx="360360" cy="2638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701040" y="2590920"/>
            <a:ext cx="166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ccecff"/>
                </a:solidFill>
                <a:latin typeface="Arial"/>
              </a:rPr>
              <a:t>nezmapované políčko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4280" y="2971800"/>
            <a:ext cx="108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ccecff"/>
                </a:solidFill>
                <a:latin typeface="Arial"/>
              </a:rPr>
              <a:t>voľné políčko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05360" y="332568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ccecff"/>
                </a:solidFill>
                <a:latin typeface="Arial"/>
              </a:rPr>
              <a:t>prekážk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98880" y="3733920"/>
            <a:ext cx="23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ccecff"/>
                </a:solidFill>
                <a:latin typeface="Arial"/>
              </a:rPr>
              <a:t>políčko nie je súčasťou riešeni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4640" y="411480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ccecff"/>
                </a:solidFill>
                <a:latin typeface="Arial"/>
              </a:rPr>
              <a:t>dočasný cieľ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06800" y="4495680"/>
            <a:ext cx="4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ccecff"/>
                </a:solidFill>
                <a:latin typeface="Arial"/>
              </a:rPr>
              <a:t>cieľ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03560" y="4876920"/>
            <a:ext cx="11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ccecff"/>
                </a:solidFill>
                <a:latin typeface="Arial"/>
              </a:rPr>
              <a:t>pozícia robot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482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3" name="blindhole" descr=""/>
          <p:cNvPicPr/>
          <p:nvPr/>
        </p:nvPicPr>
        <p:blipFill>
          <a:blip r:embed="rId3"/>
          <a:stretch/>
        </p:blipFill>
        <p:spPr>
          <a:xfrm>
            <a:off x="152280" y="25909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6482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5" name="blindhole1" descr=""/>
          <p:cNvPicPr/>
          <p:nvPr/>
        </p:nvPicPr>
        <p:blipFill>
          <a:blip r:embed="rId4"/>
          <a:stretch/>
        </p:blipFill>
        <p:spPr>
          <a:xfrm>
            <a:off x="3200400" y="25909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2T12:20:20Z</dcterms:created>
  <dc:creator>Wray</dc:creator>
  <dc:description/>
  <dc:language>en-US</dc:language>
  <cp:lastModifiedBy>Wray</cp:lastModifiedBy>
  <dcterms:modified xsi:type="dcterms:W3CDTF">2005-05-23T19:26:04Z</dcterms:modified>
  <cp:revision>32</cp:revision>
  <dc:subject/>
  <dc:title>Prezentace aplikace PowerPoint</dc:title>
</cp:coreProperties>
</file>